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B9F-120B-4B54-99EE-1417A14CC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BCB-137C-45F7-B57B-246D92DBE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26E-F6F1-4020-98AE-72E59FF2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6F4-9D8C-4176-9B1C-F5EF755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6C31-03CB-46DC-A3BD-2C8D9D68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6E699-B2F5-4A04-A009-E57F421C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5AEEF-53A6-47C7-9749-782A99B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87384-9276-41EA-BDAB-6693615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836A2-7328-415B-874C-2C13789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D30E-2672-410C-8F0E-01486A32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217AE-8EF5-4BEA-8681-A366E0CA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AAC45-E070-4186-A986-0044FDBA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F2F8-AFAA-46E4-B819-A814947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939-CC72-4BA4-A3B4-F618CAE9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03E-B77E-44B5-B4A4-1A081412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F67D-4BE6-47EF-A8F5-13F04389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E017-101E-4046-9108-5EF72CF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2925-AAED-46E6-9F79-C9998590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608-22E7-460C-BEF2-A8A138FD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DAE1-8978-4830-9B51-54583FB4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7FE-20EF-4786-A419-FF789BC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0B26-595A-4671-97D2-1435B73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59C-80E8-4F4C-9AEF-3A64551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C382-4618-4D95-BE2B-86A621CB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6AC9-0735-4F2B-A166-6B886B6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59A-716D-49CF-8169-F0C32B5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F221-86E3-4636-BAE7-F7BED9E2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9B98-069A-439F-88CB-FCD8468B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1235-C7ED-474B-886A-E6EFAAFE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B0D9-79F1-44BC-A802-08974775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AB53-8B6A-4A20-A059-E8CB352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2442-F5AB-4386-90E2-06D330C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8B42-7F2C-4AFE-91EC-AE61974F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1E0-F952-4477-BE31-697F086F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D269-6B49-4F67-9C10-4304C2A5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5416-8594-49DC-86D4-88D0E57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EE63-BB34-4ECB-91AA-0CCDED3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1739-C49A-4A99-BEB3-3C6D43E4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85DD-9FFE-4C5C-B140-D73814D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DBF4-D5EB-4B5E-852C-CFF49286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1228-1FF0-463A-BDA7-702D93C4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B292-4F93-4858-8710-D4851BD2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4870-EC91-46C1-87AC-B091270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F73D-F777-404E-8AE6-339B1DFB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27E-C13B-47AF-A173-0CD12F81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F271-DDCC-4C84-843C-866B29B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BC61-383E-4D41-9839-4B04205F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3EF9-D8FF-40A1-BFF0-FD57F836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408C-D11E-46CA-94C1-B3AF0AF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33DC-982F-45F4-AB5C-83D1B6D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487AA-E7C6-43FF-A8C2-52E0254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C319-B675-4BD6-AE5C-317DE0E8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555B-5BBF-45CD-BEA9-8F1CE258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6E36-4556-481C-B103-F72FA0F9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65A9-084D-49F3-94C3-E5804E9E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1D2-6DEE-4165-8B05-7D74A67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5952-1DC9-4CF7-8DA7-0F14DB4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652A-CE0E-4EEE-95A5-8E39B2EB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FE5E6-108D-48CD-8871-3787AB7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ECD1-C6B0-4A4B-B3A7-FF10F9E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2B68-FEFF-4362-B221-C422FCC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7338-2411-4086-8AA4-DE1569F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DDA2F-3D3B-4CE8-949D-D68C805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0C94-7236-4F73-A740-00C497E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7CC76-83C7-4EB7-AEF4-9196ECA3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7220-65DA-47B1-A273-4BEAF74D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BED-ACFC-4BB4-8757-1B5C684F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FE66-6904-46D2-B105-DEE6D826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09353-79BE-4263-9380-8ABEA0B4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5A99-F3CF-4800-AD57-D79A4BD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BC20-FE6D-488F-80A7-1C35BB17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B36B4-DE4A-4C89-94D5-817BEA3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E05E-56E5-45A5-B052-62F2DBCB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35F41-E46B-4E25-B811-37995AC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3C7A-CE91-4E54-A5EB-5E3DCA8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3DAA2-38EE-4443-8834-78D9D5F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4995-0224-484C-A9C9-38D9280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751-3CC2-4DCD-A2CE-34CD63C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00110-8C57-47F4-B2E0-E74DC03B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DF54-0886-4CC0-A332-C91616ED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ED0DE-1CC8-4D40-8A1A-DDE6C6D5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52DF-89C0-4B5D-9218-FD61F379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86117-CA92-4290-AB35-FD18A02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45A1-6A3B-4136-9296-83607EF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B78A-7380-4493-A204-3F8339FD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31AE-B03B-4EEF-8363-ABD1545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07B9-D1F4-44AA-8B8E-BBFE1F6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88C4-1C08-47F0-85E4-D42ACE7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E24-E2CC-4194-875C-9AE619AC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75009-7A18-46DC-A1AB-5A07019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1F30-6B69-4A59-857D-8DABF61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B808-84B2-448F-9B61-4CB72C9A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D513-506A-4046-A72F-7A65AE56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9646-54EE-4882-A84E-5DE2019E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1F47-C515-4311-9366-D4A76D2C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F3A23-01EB-4BC3-9F17-4EF0925A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7DBD-BA53-4F0A-AADE-10AF7FFA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2232-551E-4F5D-946E-48A3EE7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21E41-36ED-4EA5-8B1C-A9B8276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5A6-FF5C-473C-95E3-73A0D5F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14E4-7294-488E-BB46-F2616AD8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6D01-0136-43D8-A7AD-2677E80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99947-9CFC-4209-A4F4-B8F0E3C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788B3-2D54-47BD-921C-BA0F56C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C54C1-AB42-411C-90C1-D935BEB0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62370-0C9B-4A93-9255-4F420191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59276-309E-490F-B8A1-0A969570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28704-BA54-4E36-A030-58003A4A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A9F67-2437-48A2-8BA7-3B0D6C70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8B2F2-653E-4CEC-8D9E-9896EBE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C44-F626-4849-ABD5-755D0C51C6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ADF-08EC-402B-B969-0E48467247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F0B-732B-4D7A-8193-5EA25AE7F0E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B5B6-1CD2-4328-9580-C73D401531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CFFC-F4D1-4C4E-BFDF-F0AD2E93BA1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54D-322A-4577-9887-22E375AC94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0153-C666-4250-B194-C03BC11319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B0DF-0DAA-4725-956B-BD3F850BA61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038A-C10D-47E8-AA53-33CE64C4642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80520" y="-53352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76040" y="287172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3962520" y="4952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bbie.temple@lakeviewacademy.co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457200" y="21337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ravelocity activity –pick a place to go and how much it cost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Place the website in the bottom-position, question at top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Grayed box is where students writ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Then there is a submit panel at the end of the teach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Submit panel at the top right look at home tab can write full panel tes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Private notes-students learn to balance pen and text tool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457200" y="44956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ass examples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On what continent would you find the Nile River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 In what hemisphere would you find US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Which continent possesses the most peop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2"/>
          <p:cNvSpPr/>
          <p:nvPr/>
        </p:nvSpPr>
        <p:spPr>
          <a:xfrm>
            <a:off x="304920" y="175248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ovide students a notebook of examples to help them with homewor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ut up math problem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View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replay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play is great with graph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nd Character writing /cursive/music teachers/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2"/>
          <p:cNvSpPr/>
          <p:nvPr/>
        </p:nvSpPr>
        <p:spPr>
          <a:xfrm>
            <a:off x="22860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o Check Attendanc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Go to Tab marked Show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ttendanc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ook for unchecked box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2"/>
          <p:cNvSpPr/>
          <p:nvPr/>
        </p:nvSpPr>
        <p:spPr>
          <a:xfrm>
            <a:off x="457200" y="16765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odeled after the windows 07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f you ever get lost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go home…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380880" y="19051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Another great way of getting input from students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tatus check-teachers add a stoplight to panel- anytime you see a stop light o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 panel student stops and updates status of understand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browse over icon to see statu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4729320" y="1371600"/>
            <a:ext cx="37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urriculum Side-Dyknow Vis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380880" y="13716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nitoring S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4648320" y="2362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teractive Feedback From Stude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4619520" y="281952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ctive Note tak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45720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st Practices and Supporting Technologi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57200" y="17524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rough monitor white list just the urls you want them to visi tand student can’t get anywhere els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380880" y="35053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540a"/>
                </a:solidFill>
                <a:latin typeface="Franklin Gothic Book"/>
              </a:rPr>
              <a:t>Let’s take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540a"/>
                </a:solidFill>
                <a:latin typeface="Franklin Gothic Book"/>
              </a:rPr>
              <a:t>a walk around  Dyknow…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380880" y="213372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re are you in terms of Dyknow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at do you want to do in your classes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. Get more feedback/assessment from stude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. Offer an audio record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. Focus on small group and project based learn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, Oth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4920" y="4495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olling gives control; then posts grap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y using the polling question, you can pull information back into class and discuss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y students chose their answ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TextBox 5"/>
          <p:cNvSpPr/>
          <p:nvPr/>
        </p:nvSpPr>
        <p:spPr>
          <a:xfrm>
            <a:off x="228600" y="5867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ow do you know what /when the student submitted answers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reen arrow turns re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22860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on ABC icon to set up the poll-Then, poll participants can see people sending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sults in a bar graph, pie chart or individual  respons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capture which puts it on screen, then, click outside  and it pla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TextBox 2"/>
          <p:cNvSpPr/>
          <p:nvPr/>
        </p:nvSpPr>
        <p:spPr>
          <a:xfrm>
            <a:off x="68580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ell-designed skeletal notes are more effective than free-form notes or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omplete instructor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use Private Ink- doesn’t show up on student’s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609480" y="2971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search based Approach to Encouraging Effective Note-tak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685800" y="38098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se Dyknow to provide guided notes and facilitate effective and activ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note tak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609480" y="472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ell-designed skeletal notes are more effective than free-form notes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or complete instructor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"/>
          <p:cNvSpPr/>
          <p:nvPr/>
        </p:nvSpPr>
        <p:spPr>
          <a:xfrm>
            <a:off x="304920" y="1752480"/>
            <a:ext cx="883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Use Dyknow’s lecture capture feature to pre-record class lectur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aves in a Windows Media format; can export to mp3 so students can listen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hile walking to class on their iPod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equire students to replay lecture prior to cla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ree up class time for in-class activiti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eacher is now present to assist with activities normally done outside the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session, start , record audio 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hen you save ,notebook will go to server as notes do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an capture what students are discuss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an post for student who misses cla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609480" y="2209680"/>
            <a:ext cx="769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cord Your Notes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each to Your computer with Audi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computer mi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lapel mic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Audacit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istribute to studen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ave Students review before class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omework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Revie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Have basic informa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en, you can do more small group interac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228600" y="1295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tart With A PowerPoint…..Inset It And Off You Go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2"/>
          <p:cNvSpPr/>
          <p:nvPr/>
        </p:nvSpPr>
        <p:spPr>
          <a:xfrm>
            <a:off x="685800" y="16765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Grab student work, bring it into session and it becomes a part of everyone’s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Best Practice –Bring In a student’s work; It shows without showing student’s nam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You can go in and retrieve student work; You can make annotations on it, put a grade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on it and then you can electronically send it back to student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Students can only see their work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533520" y="1752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rough Replay can see the different  places students  have be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reen grab, insert, and it pops it into Dykno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304920" y="3581280"/>
            <a:ext cx="350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reat Feature!......For Math, maping , label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n record steps and replay back step by ste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457200" y="14479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embed content and images in students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533520" y="213372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Java apple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oogleDoc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creen grabs, scanned imag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ses Dego social  network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t up as co-moderators-so that when the instructor adds content it is automatically getting can see student status-stop light effect in blocks by student nam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use Word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osition can make the panel be  different siz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isable by default allow brows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browse/ then captur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36:53Z</dcterms:created>
  <dc:creator>Admin</dc:creator>
  <dc:description/>
  <dc:language>en-US</dc:language>
  <cp:lastModifiedBy>Admin</cp:lastModifiedBy>
  <dcterms:modified xsi:type="dcterms:W3CDTF">2009-07-28T12:57:22Z</dcterms:modified>
  <cp:revision>23</cp:revision>
  <dc:subject/>
  <dc:title>Slide 1</dc:title>
</cp:coreProperties>
</file>